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BD8-DB4D-4BE2-8B55-3126D0DB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0F2-40DA-4D67-9E6B-F2C7BE58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AD1-F79E-4C77-8BCD-8C7FD349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630-E3F1-4482-AD19-D9904D36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631F-EBAF-4D3F-9115-2C944C0A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B222-F5A0-48AE-A1F7-D3CE0623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F42A-89E2-437C-A66F-385B694E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ACD5-14BF-4D60-934A-D6437101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C7D2-555D-4324-8ACB-16AE0155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FC13-90BE-4B73-8AB1-5739DEF2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5102-F311-4265-BE86-4FF04DC8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C4BE-3129-465D-9F7E-5255CE80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822F-962E-49E7-94EF-3B9689E3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1D5B-9DE4-4CAB-BF4F-9BB9843B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C5E9-BF66-48A6-94C7-5629F1D0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BA92-061E-4465-A1E0-D9CC9E64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5BC9-21D0-44C0-A093-0C01586E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48A-012A-4CC4-A8BB-52A2EA75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4FA-4267-4718-B24D-2472DC99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7B19-7E18-45ED-97D0-2E312F9B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E552-9CF9-49AA-8696-E5336ACF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7CA-16FE-4D46-9D55-88B6E9F6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177-E79A-41A2-AAF0-D3A51875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098-C18A-41D1-A729-5184C200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1620-D63A-40FA-8A60-B7CC2C722FF3}" type="slidenum"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8966-189E-4D41-B51A-2AA5A1A4CF47}" type="slidenum"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ekstin kirjoittamine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llennu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luetoiminno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uotoilu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uluko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uvan lisäämine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ulostu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57564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11:08:57Z</dcterms:created>
  <dc:creator>atk</dc:creator>
  <dc:description/>
  <dc:language>en-US</dc:language>
  <cp:lastModifiedBy>Kurssi</cp:lastModifiedBy>
  <dcterms:modified xsi:type="dcterms:W3CDTF">2003-02-17T11:25:35Z</dcterms:modified>
  <cp:revision>4</cp:revision>
  <dc:subject/>
  <dc:title>Ei dian otsikkoa</dc:title>
</cp:coreProperties>
</file>